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F71-AA62-4E74-945D-C1570B01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3CE-0BFA-495C-8B8A-2D92780B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17F-23EB-48AD-A0FD-06F2DA9A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E99-494F-4546-B2F7-3E3F9599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7A9-F2D7-4781-8482-6D5E37F5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84C-F9C3-44EA-8B4A-E311E025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D39-0F06-4EB7-8E4F-D4B93A08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885-CEB1-4418-A076-53E70AB7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CFC-9D91-44A3-93DC-56BCEB11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6F6-320F-4806-AB00-63FCF76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B03-7B49-4B7E-B29D-1305415E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79F-3B71-4ADC-B613-47C72BBA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8729-10B0-4FDC-B101-6B26DDF4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l babui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su agu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148360"/>
            <a:ext cx="68580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una manza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a tier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su desayu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v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ncima 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a lu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s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so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tie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una cas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al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piensa qu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quie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unos amig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beb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20:49:25Z</dcterms:created>
  <dc:creator>Helen</dc:creator>
  <dc:description/>
  <dc:language>en-US</dc:language>
  <cp:lastModifiedBy>Helen</cp:lastModifiedBy>
  <dcterms:modified xsi:type="dcterms:W3CDTF">2010-05-11T20:57:47Z</dcterms:modified>
  <cp:revision>1</cp:revision>
  <dc:subject/>
  <dc:title>El babuino</dc:title>
</cp:coreProperties>
</file>